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gif" ContentType="image/gif"/>
  <Override PartName="/ppt/media/image14.gif" ContentType="image/gif"/>
  <Override PartName="/ppt/media/image13.jpeg" ContentType="image/jpeg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Santa%20Is%20Coming%20To%20Town2.wav" ContentType="audio/x-wav"/>
  <Override PartName="/ppt/media/image6.gif" ContentType="image/gif"/>
  <Override PartName="/ppt/media/image11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C3D0-45FD-418D-B649-8B672486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9AA0-ACCE-4ADB-BFC3-0F03673A6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428-9EB2-48D9-BA20-EE5A66E9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9541-23CB-4F54-A834-E8AAB7690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8D86-5E6B-476A-80A3-A274FEB3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18FA-C715-49BA-B5F3-A108D4CB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465-67A0-4959-AD12-C5743B9E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731A-E5EF-4F89-A83D-19E18740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E89-E302-4873-B5F9-CF963C85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C12C-AF5C-47E4-A49B-1E64123A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3746-2B04-45CD-8D26-B645490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A7DE-CD30-497A-8A56-41092F12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B276-873A-49B2-857F-31FEFEA42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Santa%20Is%20Coming%20To%20Town2.wav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2843280" y="4941720"/>
            <a:ext cx="2800440" cy="1419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227640" y="2997360"/>
            <a:ext cx="1471680" cy="151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684360" y="1413000"/>
            <a:ext cx="76006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anta Claus is coming to town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6478560" y="5942160"/>
            <a:ext cx="26654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ANCA, SARA P., LUCIA N., JESSICA, ANDREA S., VIC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560" y="5157360"/>
            <a:ext cx="7993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You better watch</a:t>
            </a:r>
            <a:r>
              <a:rPr b="1" lang="en-US" sz="3200" spc="-1" strike="noStrike" u="sng">
                <a:solidFill>
                  <a:srgbClr val="6600cc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out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you better not cry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you better not pout I'm telling' you why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Santa Claus is coming to town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461440" cy="1295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051680" y="0"/>
            <a:ext cx="209232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549000"/>
            <a:ext cx="851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He's making a list checking it twice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he's gonna find out who's naughty or nice, </a:t>
            </a:r>
            <a:br>
              <a:rPr sz="3200"/>
            </a:b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Santa Claus is coming to town</a:t>
            </a: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435640" y="4076640"/>
            <a:ext cx="1008000" cy="1209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619280" y="189000"/>
            <a:ext cx="5715000" cy="190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324000" y="4365720"/>
            <a:ext cx="53316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867280" y="1916280"/>
            <a:ext cx="327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sees you when you ´re  sleeping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he know when you ´re awak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000" y="981000"/>
            <a:ext cx="77151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e known if you been bad or good so be good for goodnes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k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3640" y="189000"/>
            <a:ext cx="360972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you better watch 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you better not c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you better not pout i´m tellin you why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   </a:t>
            </a:r>
            <a:r>
              <a:rPr b="0" lang="es-ES" sz="3600" spc="-1" strike="noStrike">
                <a:solidFill>
                  <a:srgbClr val="003399"/>
                </a:solidFill>
                <a:latin typeface="Arial"/>
              </a:rPr>
              <a:t>santa claus is coming to 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84720" y="3860640"/>
            <a:ext cx="2498760" cy="2560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10:54Z</dcterms:created>
  <dc:creator>pc02</dc:creator>
  <dc:description/>
  <dc:language>en-US</dc:language>
  <cp:lastModifiedBy>pc10</cp:lastModifiedBy>
  <dcterms:modified xsi:type="dcterms:W3CDTF">2011-12-21T10:47:23Z</dcterms:modified>
  <cp:revision>10</cp:revision>
  <dc:subject/>
  <dc:title>Diapositiva 1</dc:title>
</cp:coreProperties>
</file>